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8D58-75AE-4965-9A01-55CF4B60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343D-4F7D-43A7-A5F8-07E8C235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6E78-468F-4A9D-882C-D91C4BD0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9AF2-2773-4804-BDCE-4E413107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8F70-5BE4-4A22-9732-6D388D3C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7DC0-F1E4-4935-8C50-D178C527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5559-2767-4045-A3D8-7B530FD6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F8DF-3B53-4A88-8C77-C49BC15D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C7AD-3C81-4CB8-9DE9-F2DCD646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ABE1-E03F-4E65-A219-E5E779CB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D70B-27EA-4456-899D-479163A8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8A13-0D5B-4C1E-9361-A4AC331C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AD0C-97B5-409A-A087-691B819C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39BF-8D18-4CDC-938C-C29D67CB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A13D-1D69-4602-9C6E-A494E33C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43CD-89EE-4E37-B455-1BB39DB9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C6E6-F2BC-4D5C-BFFB-5FB17275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55B-D4EA-4449-940E-48C0031F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3BCD-1F97-456F-9AC9-0933A848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0D13-9B0B-4F11-BF7E-A8D2C11F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06CA-3583-4CCB-8DA3-6DCEB15B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6160-91AD-4CE6-87BE-8DACD55D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C1D9-494B-48D0-8307-9442AA70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8A79-4FBB-4712-ADD6-2EAC1754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CEE6-FEA4-4F70-ADCD-A9FCF7FED928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83B7-1B68-4043-B080-3176691B2A88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057400"/>
            <a:ext cx="5105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????Boutros Rokaa"/>
              </a:rPr>
              <a:t>بصو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????Boutros Rokaa"/>
              </a:rPr>
              <a:t>إلى الر بِ أصرخ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صوتي إلـى الربِ أصرخُ، بصوتي إلـى الربِ أتضرَّعُ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525780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سكبُ أمامَهُ شكوايَ 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675320"/>
            <a:ext cx="9144000" cy="427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بُثُّ لديهِ ضيق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003640"/>
            <a:ext cx="9144000" cy="362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9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ندما يُغشى على روحي فـيَّ </a:t>
            </a:r>
            <a:endParaRPr b="0" lang="en-US" sz="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صوتي إلـى الربِ أصرخُ، بصوتي إلـى الربِ أتضرَّعُ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9" name=""/>
          <p:cNvSpPr/>
          <p:nvPr/>
        </p:nvSpPr>
        <p:spPr>
          <a:xfrm>
            <a:off x="0" y="1981080"/>
            <a:ext cx="57913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د بادَ عنّي كلُّ ملجأ، ليسَ من يسألُ عن نفسي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صوتي إلـى الربِ أصرخُ، بصوتي إلـى الربِ أتضرَّعُ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981080"/>
            <a:ext cx="60199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صرختُ إليكَ ياربّي. قلتُ أنتَ مُعتَصَمي. أنتَ حظّ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أرضِ الأحياء.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صوتي إلـى الربِ أصرخُ، بصوتي إلـى الربِ أتضرَّعُ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6:11Z</dcterms:created>
  <dc:creator>Charbel Azar</dc:creator>
  <dc:description/>
  <dc:language>en-US</dc:language>
  <cp:lastModifiedBy>Charbel Azar</cp:lastModifiedBy>
  <dcterms:modified xsi:type="dcterms:W3CDTF">2003-02-13T13:30:50Z</dcterms:modified>
  <cp:revision>8</cp:revision>
  <dc:subject/>
  <dc:title>PowerPoint Presentation</dc:title>
</cp:coreProperties>
</file>